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887-D5F9-48D4-8B90-0D01EF91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823-438F-46FA-8DE4-1CF711D2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463B8-AC74-4E86-8FAC-C1D50150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E189A-2513-41CD-BA47-D9D50A90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1BB5D-BEA3-4174-A449-9270575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4C728-0129-4063-A654-FEB5D58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5922F-DC44-4245-9175-F058CDB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86A8E-B7E2-4FD9-8F90-C05C089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EE779-0568-45CB-A1D4-2C6776E4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8873A-F45E-4B5B-A8F2-2B0592B1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87AF1-5086-47CD-A83F-1AE94804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F14EE-D1F9-46F5-88DE-802776C0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B4F-E2B9-4618-8403-A7A54089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FA621-7FD5-4ED7-9EFF-33C78BF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AC326-CFF9-4101-985D-5B4687BD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8AD3A-1B1B-42A9-9B89-09D34D1A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45079-9A5C-4FEB-88C7-7D9ABD3E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D613A-0781-4680-8895-5C26DFC8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5846F-2B38-40EA-9AB0-6B8D4C7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751BE-4D37-4F54-ABC0-322EF9A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745D-87A6-467F-A299-5FE9537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46593-6F94-4603-99C6-80C7A50A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25F3C-0B2A-4DDF-AB74-17F4B71A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451-71C8-4B34-BB96-9902DA82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BE651-6BED-4176-B803-1E40AF0C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94FC-E358-4159-998A-72A1ACF6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C3EB3-1B09-49F7-BE82-1A1311D8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9103D-7E37-4109-8CBA-75E7E2D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A0493-55CC-4994-823E-3F1DC228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E5A23-1413-4CAE-A3D9-2ED70B63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C1DC3-49C0-4DDD-8955-E83CFADA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EC35D-2F94-4F88-BF5D-70CE5048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77890-8C1F-46D8-B97C-C06390A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B1AAB-41A6-4CC0-A359-B67979B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78E8-A0FD-4AA7-A659-80D8C17F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EA1B1-AFAB-4521-96CF-D8EF4370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B2EC1-70BC-4975-AFBF-7D424592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65828-DD17-4058-BADD-9A0C0A5D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F838D-21AC-44F2-9745-B6D90F36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EBC67-9672-44B3-AF99-AC7C11B9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55979-29C6-44DB-A7DD-1C92C0EF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C73FF-1462-46BD-B7F9-EB1750A5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66491-E752-4B0B-9163-CB68E0B7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203E9-026D-4E29-9686-79B7CF5A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1FB6B-AD5E-4A91-BF93-7AA79D7E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50C3-0D80-46DA-B743-5C634FBB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626C8-CD3E-4806-A40F-21E0EFFF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A49FC-43FB-4713-9083-B2A1C13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D89E3-947C-4689-85A4-353199EE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962C3-CB2F-44DA-8482-6AAFE714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A27CA-D4B5-442C-86FA-92502835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3138-F826-46E2-A51E-0A0DAF31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0BDF-C4F6-4E63-86A7-4A1B7D10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7D44-A377-4F6A-B807-8C22D0A4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1B2E-A795-4F03-A495-C0A7D16B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63CE-F994-48D3-89C4-77BA0C0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B33-7AB9-43A9-8292-E8D8CB07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BD01-911E-43B7-93CD-7F1479F2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EB3-B66B-4CCA-BE08-5AAD425F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2C9A-668F-47FA-8FB2-2569BCB5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1FDE-F47E-48E4-88B6-1D2E5A37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CAC6-045F-43B8-B2B5-26B81CC8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913A-F35E-4361-A435-E80321FA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75ED-F891-42F9-A8AF-42C425CB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2040-65D1-4E9D-8945-F400FC92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871A-E64C-46D8-A0CB-94AE5C95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BE47-AC88-4DCB-BC1F-1CABBFE9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27E-9C9B-47FC-BC84-CBF899F1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A1BF-EE77-4E0B-A514-5CA91F56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9A92-1BE7-4821-8F8F-9822EC8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DBAC-9BE5-4B43-814D-6D93E237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1017-42CE-463B-9691-202B8FC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387E-5197-460C-831E-EF4FF354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C204-B83B-48CA-A48D-F419E619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EE4C-C0C0-4AF9-B952-07C1C2EB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AF5D-B1A0-4294-9205-0DA0372E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7EAD-6CDB-4193-85A1-E465AE5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1A1CB-76F8-4960-8C7D-BD8DA974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C32-1DB7-48A3-9E2E-D24F9227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9D62-E8B9-4DE8-B6AA-9A8871A3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3D35-6B9F-4E47-AD40-CB1E8059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D806-4CA2-4124-A4A5-848EA558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9BA8-462D-4A42-93CC-F4260FA7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2BAD-A7F1-4A9C-8F46-B14938BD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1E31-5A0E-48C3-8B41-BA9A1F49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98B2-7DD5-4704-96C1-909AA8F6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4CD2-E50B-41B4-B0CB-01B47AB6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13CD-BF0C-4A84-BD93-B6C0961A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3A2AE-E439-4899-A767-DB82C1C2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B4B-1C58-4E7C-8236-2A9E1B7B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2045-F937-414F-9CF2-55E6605C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4474-7155-4326-A1F8-C8A80849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D6333-2161-4F6D-A563-6707E151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5C998-5795-4B5E-8689-4FBBD57F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E0D8-F806-4593-AE19-55CD831D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0F7F3-61A3-481C-85E1-2FFBAF32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78F6-585F-452A-8639-F979F1A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4E851-B254-43E2-9F1E-25143B21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9FE7-529F-4504-9714-B22ED331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1B8D-052B-4458-9AEB-0F28DE80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65E-D0D6-416B-8D4E-C7D90538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FCAF-3C01-4612-A3AC-676A3293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78EB-FB1F-4270-B375-7B1C9C68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1E32-E04C-4842-B582-5B28FA19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0C2FF-7F64-4D0B-B0EC-B8A12FD0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55996-3CE6-4E6F-AC52-C50B77AE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5E194-A8B1-4B81-AA61-7E8B4C92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C5F2-BE99-43E9-A4CD-7F1FCAC0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B2948-D34C-49CE-A451-AC77565F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C3E0F-1EC6-456F-BA6E-C6CDB0D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82E23-C5A2-489F-9A92-11C5B36B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573-09D1-4CC0-94CA-A3C6E4E6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16F06-9986-4C0E-A63F-E4E85D3F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DAAF1-5100-4FBB-BEE9-85F3B6F0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3F05F-40AA-44A6-8329-4E1BA9C2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D125-CACB-497F-9CB9-796756EA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1F567-1817-45F8-9D68-4BFDC965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55281-E2D5-4204-8981-8CBD04BB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09BE0-8C48-4552-B703-ECF27079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10B6F-4D0B-4C36-BCD0-C7E768B6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60123-29F5-4B25-8D66-CC2FF1E2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60B42-5A51-424A-9992-E2F7532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C29-4E89-4744-8F86-A5105483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EFE94-732D-4FB3-AAF7-0790345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DF21E-C5F6-4169-A75B-B72B5B0E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B81BE-5869-4F03-9CED-46BCA231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ED3E1-7B0F-438C-A77A-B84A8295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A502-5014-46A8-B64D-25431B78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932BB-5433-42C1-BC5F-9E634444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434E7-555C-40F5-A2D1-1C481243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7ECA-1A5D-469D-81EE-E96B0E49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CA239-BCC4-4051-A1F5-AEB3C452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9E7A-7D7F-4E78-9700-94B26CBD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D89-3CED-4B81-A9EE-36770BC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3439E-C6BA-428E-BBF6-C0733E7D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9B5C4-2A69-493C-870F-14EEA38A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79938-B21F-4CF6-A43A-3C015386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A8538-94C3-4E0F-B576-4028D7D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D1730-372C-4280-8BC1-4B8DBEFE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5E28C-AFD8-4855-8E22-EE9561C6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E39EB-97A0-47F1-AAA1-95C2C84E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D2218-B59D-4D93-A287-C79F0D3B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8AB75-7342-440D-B366-8CB69240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35412-9940-4606-BF54-6F13E0B6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B3D9-43B3-4A39-97C8-2161F58B801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9FDD-819B-4E85-825C-F0086D949E4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404E-7B84-4356-8DE0-F72CC93F394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0B6D-3941-485B-B7D8-1BF4F97BDE5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A7E2-F031-4E06-96CF-66166A748B5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27F6-FC29-4814-9909-5EDEC19186B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94D7-7828-4C85-88BC-8ABB733C9F5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3051-9BA5-40BD-9402-B2311095D2B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6152-A5A8-4681-8A6F-3D6E3B31E01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6E8D-3EDE-450F-BFE4-70C5071C978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1607-C63F-44EF-8CB0-41FEB22CEB1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AB1D-FCA0-4258-A7C7-72374F20758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5" descr="3161555-grande-immagine-di-un-suono-elettronico-sine-o-audio-onda.jpg"/>
          <p:cNvPicPr/>
          <p:nvPr/>
        </p:nvPicPr>
        <p:blipFill>
          <a:blip r:embed="rId1"/>
          <a:stretch/>
        </p:blipFill>
        <p:spPr>
          <a:xfrm>
            <a:off x="4067280" y="4581360"/>
            <a:ext cx="507672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6656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l suono è una perturbazione longitudinale prodotta da un corpo che vibra con una certa frequenz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e corde vocali di una persona, le corde di una chitarra sono esempi di sorgenti sono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Rettangolo 4" descr=""/>
          <p:cNvPicPr/>
          <p:nvPr/>
        </p:nvPicPr>
        <p:blipFill>
          <a:blip r:embed="rId2"/>
          <a:stretch/>
        </p:blipFill>
        <p:spPr>
          <a:xfrm>
            <a:off x="1109520" y="158760"/>
            <a:ext cx="6742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Immagine 3" descr="eco.jpg"/>
          <p:cNvPicPr/>
          <p:nvPr/>
        </p:nvPicPr>
        <p:blipFill>
          <a:blip r:embed="rId1"/>
          <a:stretch/>
        </p:blipFill>
        <p:spPr>
          <a:xfrm>
            <a:off x="230040" y="333360"/>
            <a:ext cx="8663040" cy="61912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eco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è l’esempio più noto di riflessione di onde sonore.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’esempio più noto di riflessione di onde sono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Poiché la velocità del suono è costante,il tempo che impiega per andare e tornare dalla parete riflettente si calcola con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lang="it-IT" sz="4000" spc="-1" strike="noStrike">
                <a:solidFill>
                  <a:srgbClr val="953735"/>
                </a:solidFill>
                <a:latin typeface="Comic Sans MS"/>
              </a:rPr>
              <a:t>t=2d/v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ove </a:t>
            </a:r>
            <a:r>
              <a:rPr b="1" lang="it-IT" sz="4000" spc="-1" strike="noStrike">
                <a:solidFill>
                  <a:srgbClr val="95b3d7"/>
                </a:solidFill>
                <a:latin typeface="Comic Sans MS"/>
              </a:rPr>
              <a:t>d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è la distanza della paret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639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e onde sonore possono essere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trasmess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attraverso un mezzo:per esempio in un appartamento il suono è trasmesso attraverso le pareti,i pavimenti,le por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3" name="Immagine 4" descr="trasmissione.jpg"/>
          <p:cNvPicPr/>
          <p:nvPr/>
        </p:nvPicPr>
        <p:blipFill>
          <a:blip r:embed="rId2"/>
          <a:stretch/>
        </p:blipFill>
        <p:spPr>
          <a:xfrm>
            <a:off x="4356000" y="3635280"/>
            <a:ext cx="36720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639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il suono arriva su un materiale che non possiede le caratteristiche di elasticità necessarie,non riesce a propagarsi e in questo caso prevale l’ assorbimen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 materiali che si comportano in questo modo vengono detti “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Fonoassorbenti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”(la moquette,la lana di vetro,il sughero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27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L’intensità di un suono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è il rapporto tra la potenza acustica e l’aria della superficie stess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1" lang="it-IT" sz="32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953735"/>
                </a:solidFill>
                <a:latin typeface="Comic Sans MS"/>
              </a:rPr>
              <a:t>I=P/A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’unità di misura dell’intensità sonora è W/m al secondo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olo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202428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 suoni si distinguono per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altezz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timbro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ntensità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’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altezz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distingue i suoni bassi o gravi,da quelli alti o acuti. Essa dipende dalla frequenza dell’onda,cioè dalla frequenza di vibrazioni dalla sorgente: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 suoni gravi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hanno frequenza basse,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suoni acuti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hanno frequenze alte,maggiore è la frequenza dell’onda più acuto è il suono che si percepis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L’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intensità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 distingue 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i suoni forti 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da quelli 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deboli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;essa è legata alla quantità di energia che giunge sull’orecchio e quindi all’ampiezza delle vibrazioni a cui sono soggetti gli strati d’aria in cui si propaga il suon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Il </a:t>
            </a:r>
            <a:r>
              <a:rPr b="1" lang="it-IT" sz="4000" spc="-1" strike="noStrike">
                <a:solidFill>
                  <a:srgbClr val="95b3d7"/>
                </a:solidFill>
                <a:latin typeface="Comic Sans MS"/>
              </a:rPr>
              <a:t>timbro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,invece,è una caratteristica del suono legata alla forma dell’ onda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ue suoni possono avere la stessa intensità e la stessa altezza,ma timbro diverso:una tromba ha un timbro diverso da un violino,anche se stanno suonando la stessa nota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700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e caratteristiche uditive variano da un individuo a una altro e cambiano anche con l’età. In generale i suoni di frequenza minore di 20Hz o superiori a 18Hz non sono percepiti dall’orecchio uman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 suoni che hanno frequenza inferiore a 20Hz sono detti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nfrasuon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quelli che hanno frequenza superiore alla massima udibile sono gli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Ultrasuon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700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Quando una sorgente sonora e un osservatore si muovono l’uno rispetto all’altro,si verifica l’effetto Doppler:la frequenza che l’osservatore percepisce è diversa da quella che la sorgente emett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n questo effetto si distinguono due casi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la sorgente si muove rispetto all’osservatore fermo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l’osservatore si muove rispetto alla sorgente ferm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          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0" y="476280"/>
            <a:ext cx="9144000" cy="564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Una </a:t>
            </a:r>
            <a:r>
              <a:rPr b="1" lang="it-IT" sz="3200" spc="-1" strike="noStrike">
                <a:solidFill>
                  <a:srgbClr val="376092"/>
                </a:solidFill>
                <a:latin typeface="Comic Sans MS"/>
              </a:rPr>
              <a:t>sorgente sonora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è un sistema in vibrazione. Le vibrazioni sono delle oscillazioni di ampiezza molto piccola, sono trasmesse all’aria e si propagano fino al nostro orecchio. La maggior parte dei mezzi materiali trasmette i suoni; nel vuoto invece il suono non si propaga e in alcuni mezzi materiali,gli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isolanti acustici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, il suono si propaga con difficoltà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6" name="Immagine 3" descr="isolante acustico.jpg"/>
          <p:cNvPicPr/>
          <p:nvPr/>
        </p:nvPicPr>
        <p:blipFill>
          <a:blip r:embed="rId1"/>
          <a:stretch/>
        </p:blipFill>
        <p:spPr>
          <a:xfrm>
            <a:off x="4716360" y="4437000"/>
            <a:ext cx="442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Immagine 3" descr="effetto doppler.jpg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Nel primo caso,supponiamo che la sorgente sonora si muova in linea retta,a velocità costante,avvicinandosi verso l’osservator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Le onde sonore emesse dalla sirena non sono concentriche,ma sono “schiacciate” nel senso del movimento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Viceversa,quando la sorgente si allontana,l’osservatore riceve una lunghezza d’onda maggiore e una frequenza minor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Nel secondo caso possiamo dire che l’effetto si verifica anche quando la sorgente del suono rimane ferma e l’osservatore si allontana o si avvicina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Se egli si avvicina alla sorgente,la frequenza è maggiore della frequenza della sorgente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Se invece l’osservatore si allontana dalla sorgente la frequenza è minore di quella emessa dalla sorgente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Titolo 1" descr=""/>
          <p:cNvPicPr/>
          <p:nvPr/>
        </p:nvPicPr>
        <p:blipFill>
          <a:blip r:embed="rId1"/>
          <a:stretch/>
        </p:blipFill>
        <p:spPr>
          <a:xfrm>
            <a:off x="-6480" y="701640"/>
            <a:ext cx="9156960" cy="1487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All’energia emessa da una sorgente sonora si da il nome di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energia acustica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( o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energia sonor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Una caratteristica distintiva della sorgente che produce il suono è la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potenza acustic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 cioè l’energia che essa emette nel tempo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1" lang="it-IT" sz="3000" spc="-1" strike="noStrike">
                <a:solidFill>
                  <a:srgbClr val="953735"/>
                </a:solidFill>
                <a:latin typeface="Comic Sans MS"/>
              </a:rPr>
              <a:t>P=E/delta 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P=potenza acustica(w);E=energia(J);delta t=intervallo di tempo(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Titolo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3395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Le principali caratteristiche di un onda sonora sono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FREQUENZ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il numero d volte che il corpo oscilla in un secondo, e quindi anche il numero di onde generate in un secondo. Viene misurata in Hertz (Hz) e viene indicata con la lettera “F”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VELOCITA</a:t>
            </a:r>
            <a:r>
              <a:rPr b="0" lang="it-IT" sz="2700" spc="-1" strike="noStrike">
                <a:solidFill>
                  <a:srgbClr val="95b3d7"/>
                </a:solidFill>
                <a:latin typeface="Comic Sans MS"/>
              </a:rPr>
              <a:t>’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dipende dal materiale in cui si diffonde le onde e dalla temperatura. Viene misurata in metri al secondo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LUNGHEZZA D’OND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è la distanza fra due creste successive, di solito misurata in metri o suoi sottomultipli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IL PERIODO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cioè il tempo che intercorre tra due vibrazioni successive ed è l’inverso della frequenza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’AMPIEZZ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è l’unica grandezza slegata dal tempo e indica il massimo spostamento dall’asse orizzontale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Immagine 3" descr="il_suono.jpg"/>
          <p:cNvPicPr/>
          <p:nvPr/>
        </p:nvPicPr>
        <p:blipFill>
          <a:blip r:embed="rId1"/>
          <a:stretch/>
        </p:blipFill>
        <p:spPr>
          <a:xfrm>
            <a:off x="539640" y="907920"/>
            <a:ext cx="81136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Titolo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7193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’onda del suono si propaga nell’aria. Durante la propagazione avviene una compressione dell’aria e poi una decompressione(con una diminuzione della pression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n un mezzo omogeneo le onde sonore si propagano con una velocità costante, perciò la velocità del suono si calcola c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1" lang="it-IT" sz="3000" spc="-1" strike="noStrike">
                <a:solidFill>
                  <a:srgbClr val="953735"/>
                </a:solidFill>
                <a:latin typeface="Comic Sans MS"/>
              </a:rPr>
              <a:t>v=d/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Nell’aria è di circa 340m/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l suono si  propaga anche nel suono e nei liquidi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1268280"/>
            <a:ext cx="8353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Quando un onda sonora incontra un mezzo materiale, si possono verificare tre fenomeni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RIFLESSION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TRASMISSION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ASSORBIMENTO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l fenomeno della riflessione avviene quando l’onda sonora incontra un ostacolo e giocano un ruolo fondamentale le dimensioni dell’ostacolo stesso. Questo fenomeno è significativo solo se la dimensione dell’ostacolo è  maggiore rispetto alla lunghezza d’onda dell’onda sonora che incide su di esso</a:t>
            </a: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l’onda sonora incide in direzione perpendicolare alla superficie riflettente torna indietro nella stessa direzi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invece la direzione di propagazione dell’onda incidente non coincide con la perpendicolare alla superficie riflettente,l’onda riflessa si propaga in una direzione che forma con la stessa perpendicolare un angolo uguale a quello di incidenz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a velocità dell’onda incidente è uguale a quella dell’onda riflessa,perché l’onda viaggia nello stesso mezz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7:02:16Z</dcterms:created>
  <dc:creator>Francesca</dc:creator>
  <dc:description/>
  <dc:language>en-US</dc:language>
  <cp:lastModifiedBy>Laura Polenta</cp:lastModifiedBy>
  <dcterms:modified xsi:type="dcterms:W3CDTF">2011-05-13T14:16:26Z</dcterms:modified>
  <cp:revision>27</cp:revision>
  <dc:subject/>
  <dc:title>Diapositiva 1</dc:title>
</cp:coreProperties>
</file>